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9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3D0C-7674-47C3-84A8-E1A98CD1213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rdes de placas: constructivos o acreción. Destructivos o subducción y pasivos o transforma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BC89-9AFA-4238-9119-3EBC4F923D2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DF3-14CE-4A82-B9C3-96BE306F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401-6F2C-4BF5-B2C6-97984E75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967F-692F-4DDE-AF47-76ADEB2D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D83-681A-4597-BC10-22AFA918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1CA8-6132-4D5D-A7F2-0619D687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190-ACC9-4185-BEB7-0F6D4343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3D86-2888-4109-A5E5-910EFFEB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5A9D-ED11-4706-839B-F0B99FD5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66B-9E4C-49FA-8901-672EE425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BB4-50CE-457B-91EB-6DC5283A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228-7E6E-437D-8AF6-924CA1B9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0A13-7015-4E81-82DF-1608402D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7DF9-03A6-4B70-B951-DACE5A7C9CE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293"/>
                </a:solidFill>
                <a:latin typeface="Arial"/>
              </a:rPr>
              <a:t>Dinámica listosférica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9" name="Picture 4" descr="mapa%20de%20placas"/>
          <p:cNvPicPr/>
          <p:nvPr/>
        </p:nvPicPr>
        <p:blipFill>
          <a:blip r:embed="rId1"/>
          <a:stretch/>
        </p:blipFill>
        <p:spPr>
          <a:xfrm>
            <a:off x="1538280" y="2347920"/>
            <a:ext cx="60674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ORSALES OCEÁNICAS 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zonas de divergencia entre dos plac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dorsales oceánicas son grandes cordilleras sumergidas por las que asciende material procedente del manto, que se consolida a ambos lados de la misma, haciendo de esta forma que los océanos se ensanchen, aumentando la corteza oceánica basáltica y separando los continen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enen una alta actividad volcánica, son muy fisuradas y con una zona central llamad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IFT VALLE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zonas relativamente anchas, que pueden elevarse sobre el fondo oceánico hasta 4 K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algunas ocasiones sobresalen del agua, formando islas volcánicas, como Islandia.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paleom_oceanico"/>
          <p:cNvPicPr/>
          <p:nvPr/>
        </p:nvPicPr>
        <p:blipFill>
          <a:blip r:embed="rId1"/>
          <a:stretch/>
        </p:blipFill>
        <p:spPr>
          <a:xfrm>
            <a:off x="1200240" y="1076400"/>
            <a:ext cx="761976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Paleomagnetismo"/>
          <p:cNvPicPr/>
          <p:nvPr/>
        </p:nvPicPr>
        <p:blipFill>
          <a:blip r:embed="rId1"/>
          <a:stretch/>
        </p:blipFill>
        <p:spPr>
          <a:xfrm>
            <a:off x="2124000" y="1052640"/>
            <a:ext cx="5472360" cy="4427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dfd293"/>
                </a:solidFill>
                <a:latin typeface="Arial"/>
              </a:rPr>
              <a:t>Expansión del fondo oceánico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8760" y="178596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1867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ZONAS DE SUBDUCCIÓN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zonas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onverg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tre dos placas litosféric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stos lugares se produce una gran actividad sísmica y volcánica. Son las únicas zonas en donde se registran terremotos profundos ( hasta 700 Km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caracterizan por el deslizamiento de grandes bloques de la litosfera oceánica hacia el interior del manto en un proceso llamad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UBDUC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stas zonas se localizan las grande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SAS OCEÁNICAS , los cinturones montañosos volcánicos que bordean los continentes, los arcos de islas y las grandes cordilleras intracontinen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ay tres tipos de subducción dependiendo de las placas que convergen: Oceánica-Oceánica; Oceánica-Continental; Continental-continental.( En este caso se llama Obducción).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subduccion2_texto"/>
          <p:cNvPicPr/>
          <p:nvPr/>
        </p:nvPicPr>
        <p:blipFill>
          <a:blip r:embed="rId1"/>
          <a:stretch/>
        </p:blipFill>
        <p:spPr>
          <a:xfrm>
            <a:off x="2340000" y="1341360"/>
            <a:ext cx="5616720" cy="41036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293"/>
                </a:solidFill>
                <a:latin typeface="Arial"/>
              </a:rPr>
              <a:t>ARCO ISLA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subduccion1_texto"/>
          <p:cNvPicPr/>
          <p:nvPr/>
        </p:nvPicPr>
        <p:blipFill>
          <a:blip r:embed="rId1"/>
          <a:stretch/>
        </p:blipFill>
        <p:spPr>
          <a:xfrm>
            <a:off x="1619280" y="1557360"/>
            <a:ext cx="6157800" cy="4392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fd293"/>
                </a:solidFill>
                <a:latin typeface="Arial"/>
              </a:rPr>
              <a:t>OROGENO PERICONTINENTAL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dfd293"/>
                </a:solidFill>
                <a:latin typeface="Arial"/>
              </a:rPr>
              <a:t>OROGENO INTERCONTINENTAL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0" name="Picture 4" descr="subduccion3_texto"/>
          <p:cNvPicPr/>
          <p:nvPr/>
        </p:nvPicPr>
        <p:blipFill>
          <a:blip r:embed="rId1"/>
          <a:stretch/>
        </p:blipFill>
        <p:spPr>
          <a:xfrm>
            <a:off x="684360" y="1773360"/>
            <a:ext cx="698328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ALLAS TRANSFORMANTES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intrusión de lava por el eje de la dorsal hace que se produzca un desplazamiento del suelo oceánico a ambos lados de la dors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 embargo el desplazamiento no es uniforme ya que hay zonas en que se opone una mayor resistenci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o provoca roturas en el eje de la dorsal, que deja de ser una línea continua para convertirse en grandes segmentos separados por fall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as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ALLAS TRANSFORMANTES no son iguales que las fallas de desgarre normales, ya que no están producidas por fuerzas opuestas y el rozamiento y por tanto las zonas sísmicas solamente se producen en la zona comprendida entre los ejes desplazados de la dorsal y no a lo largo de toda la fall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 ejemplo de falla de transformación es la falla de San Andrés en California, que está separando la Península de California del resto del Continente Norteamericano.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t3.gstatic.com/images?q=tbn:ANd9GcQEegq8VV81NUuvUzd1eqVZoDHd3snCB41ywvcwc1WiLIRB8hcqKw"/>
          <p:cNvPicPr/>
          <p:nvPr/>
        </p:nvPicPr>
        <p:blipFill>
          <a:blip r:embed="rId1"/>
          <a:stretch/>
        </p:blipFill>
        <p:spPr>
          <a:xfrm>
            <a:off x="1500120" y="1444680"/>
            <a:ext cx="2992680" cy="3770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t3.gstatic.com/images?q=tbn:ANd9GcR3a0SRIayVBbGOj37apXKmSJn-8uS1yQOpUJB5JUBW1kv_8tWB"/>
          <p:cNvPicPr/>
          <p:nvPr/>
        </p:nvPicPr>
        <p:blipFill>
          <a:blip r:embed="rId2"/>
          <a:stretch/>
        </p:blipFill>
        <p:spPr>
          <a:xfrm>
            <a:off x="4786200" y="1428840"/>
            <a:ext cx="3751200" cy="3714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fd293"/>
                </a:solidFill>
                <a:latin typeface="Arial"/>
              </a:rPr>
              <a:t>Fallas transformantes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fd293"/>
                </a:solidFill>
                <a:latin typeface="Arial"/>
              </a:rPr>
              <a:t>¿Por qué se mueven las placas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nergía térmica del interior terrestre: las corrientes de convección del ma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grave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293"/>
                </a:solidFill>
                <a:latin typeface="Arial"/>
              </a:rPr>
              <a:t>Tectónica de placa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289400" y="981000"/>
            <a:ext cx="4741920" cy="5877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0287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egener ( Deriva continental 19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de expansión del fondo oceán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eldas convectivas del ma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lumas convect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Deriva"/>
          <p:cNvPicPr/>
          <p:nvPr/>
        </p:nvPicPr>
        <p:blipFill>
          <a:blip r:embed="rId2"/>
          <a:stretch/>
        </p:blipFill>
        <p:spPr>
          <a:xfrm>
            <a:off x="1173240" y="1652760"/>
            <a:ext cx="2671560" cy="21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fd293"/>
                </a:solidFill>
                <a:latin typeface="Arial"/>
              </a:rPr>
              <a:t>El motor de las placas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1" name="Picture 2" descr="http://web.educastur.princast.es/proyectos/biogeo_ov/4a_ESO/02_placas/diapositivas/Diapositiva53.JPG"/>
          <p:cNvPicPr/>
          <p:nvPr/>
        </p:nvPicPr>
        <p:blipFill>
          <a:blip r:embed="rId1"/>
          <a:stretch/>
        </p:blipFill>
        <p:spPr>
          <a:xfrm>
            <a:off x="1285920" y="150012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3" name="2 Rectángulo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ttp://www.youtube.com/watch?v=XvE1ApWrS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t0.gstatic.com/images?q=tbn:ANd9GcTLXZxOiSDe1uzfnwU5tOfhIC8jmQVQubnSk6dS0pxpG2DBgaEF2A"/>
          <p:cNvPicPr/>
          <p:nvPr/>
        </p:nvPicPr>
        <p:blipFill>
          <a:blip r:embed="rId1"/>
          <a:stretch/>
        </p:blipFill>
        <p:spPr>
          <a:xfrm>
            <a:off x="5643720" y="2286000"/>
            <a:ext cx="3000240" cy="24145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4"/>
          <p:cNvSpPr/>
          <p:nvPr/>
        </p:nvSpPr>
        <p:spPr>
          <a:xfrm>
            <a:off x="155520" y="-1584360"/>
            <a:ext cx="380988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155520" y="-1584360"/>
            <a:ext cx="380988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fd293"/>
                </a:solidFill>
                <a:latin typeface="Arial"/>
              </a:rPr>
              <a:t>Puntos calientes. Formación de un océano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el manto profundo de originan columnas de material caliente que reciben el nombre de penachos térmico, puntos calientes o hot sp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0" y="17146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fd293"/>
                </a:solidFill>
                <a:latin typeface="Arial"/>
              </a:rPr>
              <a:t>¿Cómo se divide un </a:t>
            </a:r>
            <a:r>
              <a:rPr b="0" lang="es-ES" sz="2800" spc="-1" strike="noStrike">
                <a:solidFill>
                  <a:srgbClr val="dfd293"/>
                </a:solidFill>
                <a:latin typeface="Arial"/>
              </a:rPr>
              <a:t>continente</a:t>
            </a:r>
            <a:r>
              <a:rPr b="0" lang="es-ES" sz="3200" spc="-1" strike="noStrike">
                <a:solidFill>
                  <a:srgbClr val="dfd293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1º la litosfera se levanta y se arqu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º Formación del R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3º Formación de la litosfera oceá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4º Formación océ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http://t0.gstatic.com/images?q=tbn:ANd9GcSz5j9zBWzKMEqAG552e_4TVc6CIhnLXo4raDibTFcnxeNe1aCDaw"/>
          <p:cNvPicPr/>
          <p:nvPr/>
        </p:nvPicPr>
        <p:blipFill>
          <a:blip r:embed="rId2"/>
          <a:stretch/>
        </p:blipFill>
        <p:spPr>
          <a:xfrm>
            <a:off x="5143680" y="1285920"/>
            <a:ext cx="285732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857240" y="1523880"/>
            <a:ext cx="54295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fd293"/>
                </a:solidFill>
                <a:latin typeface="Arial"/>
              </a:rPr>
              <a:t>¿Se está formando algún océano?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6" name="Picture 2" descr="http://elprofedenaturales.files.wordpress.com/2009/11/nile_river_and_delta_from_orbit.jpg"/>
          <p:cNvPicPr/>
          <p:nvPr/>
        </p:nvPicPr>
        <p:blipFill>
          <a:blip r:embed="rId1"/>
          <a:stretch/>
        </p:blipFill>
        <p:spPr>
          <a:xfrm>
            <a:off x="857160" y="1619280"/>
            <a:ext cx="7143840" cy="466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fd293"/>
                </a:solidFill>
                <a:latin typeface="Arial"/>
              </a:rPr>
              <a:t>Teoría de la Tectónica de Placas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1968, se unieron las pruebas de Deriva Continental y de Expansión del fondo oceánico dando lugar a otra mucho más completa conocida como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Tectónica de plac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gún esta Teoría la Tierra se divide en Placas Litosféricas separadas por cinturones sísmicos y volcánicos, cadenas montañosas continentales y submarinas y archipiélagos de islas. Las placas se construyen por las zonas de dorsales a partir del los magmas del manto y se destruyen en las fosas oceánicas subducciendo, ( hundiéndose),de nuevo hacia en manto.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-14400"/>
            <a:ext cx="8893080" cy="68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fd293"/>
                </a:solidFill>
                <a:latin typeface="Arial"/>
              </a:rPr>
              <a:t>Manifestaciones de la E. interna de la Tierra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Oldoinyo_riftafricano"/>
          <p:cNvPicPr/>
          <p:nvPr/>
        </p:nvPicPr>
        <p:blipFill>
          <a:blip r:embed="rId2"/>
          <a:stretch/>
        </p:blipFill>
        <p:spPr>
          <a:xfrm>
            <a:off x="928800" y="2571840"/>
            <a:ext cx="2857320" cy="1838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Falla"/>
          <p:cNvPicPr/>
          <p:nvPr/>
        </p:nvPicPr>
        <p:blipFill>
          <a:blip r:embed="rId3"/>
          <a:stretch/>
        </p:blipFill>
        <p:spPr>
          <a:xfrm>
            <a:off x="5715000" y="1785960"/>
            <a:ext cx="20955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293"/>
                </a:solidFill>
                <a:latin typeface="Arial"/>
              </a:rPr>
              <a:t>Tipos de placa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2" name="Picture 4" descr="mapa_placas"/>
          <p:cNvPicPr/>
          <p:nvPr/>
        </p:nvPicPr>
        <p:blipFill>
          <a:blip r:embed="rId1"/>
          <a:stretch/>
        </p:blipFill>
        <p:spPr>
          <a:xfrm>
            <a:off x="1952640" y="2019240"/>
            <a:ext cx="5238720" cy="36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bordes son las zonas de contacto entre placas.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ueden ser de tres tip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.- BORDES DIVERGENTES O CONSTRUCTIVOS: Son las dorsales en ellos se construye litosfera y se produce un movimiento de separación ( divergente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.- BORDES CONVERGENTES O DESTRUCTUTIVOS: Son las zonas de subducción, en ellos se destruye litosfera y las placas están chocando ( convergiend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.- BORDES TRANSFORMANTES: Son las fallas transformantes, en ellos se produce un movimiento lateral de una placa contra otra.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mapa%20placs%20y%20limites4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imites%20placas"/>
          <p:cNvPicPr/>
          <p:nvPr/>
        </p:nvPicPr>
        <p:blipFill>
          <a:blip r:embed="rId1"/>
          <a:stretch/>
        </p:blipFill>
        <p:spPr>
          <a:xfrm>
            <a:off x="1403280" y="0"/>
            <a:ext cx="5977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44:10Z</dcterms:created>
  <dc:creator>alberto</dc:creator>
  <dc:description/>
  <dc:language>en-US</dc:language>
  <cp:lastModifiedBy>Inma</cp:lastModifiedBy>
  <dcterms:modified xsi:type="dcterms:W3CDTF">2010-11-23T17:52:31Z</dcterms:modified>
  <cp:revision>127</cp:revision>
  <dc:subject/>
  <dc:title>Diapositiva 1</dc:title>
</cp:coreProperties>
</file>